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7FEC-F904-4D3D-A324-B286404F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766-3002-42F3-BBD8-5C7C3726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128-E0FB-4F67-9E22-AA6AC5FB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DB5-F6E7-454B-B2AC-0C03F6C46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091-22C9-43F1-BA1D-23F8B55C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90F1-DF07-4673-B3C5-FDDCBE2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554-B089-422D-B37B-AC59329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912-5EF7-471B-9B67-3FFA32C5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5A1C-2D24-450B-8428-C558986A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FAE-9A43-4B2D-861B-75E33C26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9BF-D0DA-4FB7-A1C1-554A52B8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39C-5B98-4733-AC58-E9B36CB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14CC-5B6D-44D8-8203-F01D46A01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 Update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kas Mueller, T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Acknowledg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520" y="18288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 program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ny Yo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is X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IR Cur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GD: Simon Twig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*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281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F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Tr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752480"/>
            <a:ext cx="2683080" cy="825480"/>
          </a:xfrm>
          <a:prstGeom prst="wedgeRectCallout">
            <a:avLst>
              <a:gd name="adj1" fmla="val -122296"/>
              <a:gd name="adj2" fmla="val 7192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s download of literatur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2971800"/>
            <a:ext cx="3058920" cy="1557000"/>
          </a:xfrm>
          <a:prstGeom prst="wedgeRectCallout">
            <a:avLst>
              <a:gd name="adj1" fmla="val -101680"/>
              <a:gd name="adj2" fmla="val -1819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simple user interface for annotation tasks and stores all releva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59040" y="5181480"/>
            <a:ext cx="4108320" cy="825480"/>
          </a:xfrm>
          <a:prstGeom prst="wedgeRectCallout">
            <a:avLst>
              <a:gd name="adj1" fmla="val -71675"/>
              <a:gd name="adj2" fmla="val -145375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s objects, such as articl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ough a pip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Search is a literature annotation tool for biological data ho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provides a simple user interface and powerful feat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ubSearch database stores the complete literature information of a model organism, along with the controlled vocabularies, gene and sequence information, and the associations between these data ty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m: download and install software and you are in the business of literature curatio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New Hire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zad Mahi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ed March 200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responsible for PubSearch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nsive bioinformatic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rrey Mesa Research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lication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ting publication about Pub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PubSearch.org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ed the domain name http://PubSearch.or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Software improvements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ed read-only/read-write accounts. Now accounts can be limited to just searching fo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commands for adding Communications or URL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ized selection of references in the annotation page.  All reference types have a uniform interface for sele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working on the improvement of the search interface. The plan is to separate out different search functions, but this is not yet releas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quence display now shows the associated genes to that 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Installation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d a binary for outside consumption and sent that file to the GMOD site (http://www.gmod.org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ified installation with installation scri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ied Amigo browser, which allows selecting GO terms by clicking on them, not yet inclu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 Black"/>
              </a:rPr>
              <a:t>Workshop</a:t>
            </a:r>
            <a:endParaRPr b="0" lang="en-US" sz="32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erature Curation Howt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 during the morning se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3T14:46:46Z</dcterms:created>
  <dc:creator>Lukas Mueller</dc:creator>
  <dc:description/>
  <dc:language>en-US</dc:language>
  <cp:lastModifiedBy>Lukas Mueller</cp:lastModifiedBy>
  <dcterms:modified xsi:type="dcterms:W3CDTF">2003-05-05T07:41:57Z</dcterms:modified>
  <cp:revision>6</cp:revision>
  <dc:subject/>
  <dc:title>PubSearch Update</dc:title>
</cp:coreProperties>
</file>